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F3A1-A78E-4E57-AF2A-672ECA7A7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107C-C508-4A14-8F75-E7B6F65B1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C797-8083-49A0-9159-6605A3863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8EAE-71C6-462D-BFD0-14F4F80BB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9A2F-259F-4D5A-99F1-4457565D1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0F99-A60D-4BC2-A10D-2F51A2558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D54F-58E1-4D96-BDEA-CECDBB89F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22CF-6BB5-4D11-B909-6CF3A18A8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BD4C-1FCD-44B6-9D6E-D52E32F3F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B892-0099-48AB-BDD6-BB3FB02FB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5F64-3F40-404F-8DD6-C7167A1F9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64E8-5EAF-42BF-8851-D8E8C4324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4AA91-F74D-40E0-8BA1-3B86A3ECAA05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Popp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Jane Wei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Gloss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68000" y="1484280"/>
            <a:ext cx="2374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Armisti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Remembrance Sunda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crimp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bias binding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843280" y="1484280"/>
            <a:ext cx="619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eace agre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earest Sunday to November 11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, Armistice Da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rink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corative ribbon edging sewn around the collar/cuffs of unifor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Gloss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symbolis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627280" y="1600200"/>
            <a:ext cx="6059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using an image or object or idea to represent a broader concept or the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8T20:58:01Z</dcterms:created>
  <dc:creator>Jane Klima</dc:creator>
  <dc:description/>
  <dc:language>en-US</dc:language>
  <cp:lastModifiedBy>Archer, Katy</cp:lastModifiedBy>
  <dcterms:modified xsi:type="dcterms:W3CDTF">2014-12-04T12:00:42Z</dcterms:modified>
  <cp:revision>60</cp:revision>
  <dc:subject/>
  <dc:title>La Belle Dame Sans Merci</dc:title>
</cp:coreProperties>
</file>